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960-264D-4DC1-88FF-EDB0012E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9FE-5C6A-43AA-B607-F34B189D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C5B-E292-41D3-8EBB-C29A67B6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3B4-8AA1-4DA3-84AF-E0F7BB9A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333-66DF-4CAD-AF95-B5C6F274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E8A-54C7-406B-B5FD-672CE37C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E01-D169-43B4-98AC-9C02F274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A3B-4D0F-4B48-9433-B5D9B01A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E78-02B9-4888-891D-D2227310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5EF-4E29-4A0B-AEA1-55B3B3C1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4E5-8E10-4AE7-BB37-D0E40D9E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5AE-F751-4638-9C98-A83598D6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A8E8-82A1-42D5-8F51-DCFA71FA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tanje trodimenzionalnih obje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ed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tačka,tačka] - ravan kroz tri tač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prava,prava] - ravan određena dvema prav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prava] - prava određena tačkom i prav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poligon] - prava određena poligon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ravan] – ravan paralelna datoj ravni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pendicularPlane[tačka,prava] – normalna ravan na datu pravu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pendicularPlane[tačka,vektor] – normalna ravan na dati vektor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mida i k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tačka,tačka] – tetraedar čija je stranica određena datim tačk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poligon,visina] – prava piramida date visine čija je baza dati poli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tačka,tačka,tačka,...] – piramida određena datim temen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kružnica,visina] – pravi konus sa datiom kružnicom kao osnovom i datom visin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tačka,tačka,poluprečnik] – konus čiji je centar osnove prva uneta tačka a vrh druga uneta ta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tačka,vektor,ugao] – konus sa vrhom u datoj tački, sa visinom u pravcu datog vektora i nagibom izvodnice za dati uga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ma i cili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poligon,tačka] – prizma čija je donja baza dati poligon a data tačka je teme gornje ba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poligon visina] – prava prizma date visine čija je baza dati poli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tačka,tačka,...] – prizma čija su temena date tač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ylinder[kružnica,visina] – pravi cilindar sa datom kružnicom kao osnovom i datom visin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ylinder[tačka,tačka,poluprečnik] – cilindar čije su osnove sa centrom u datim tačkama i sa datim poluprečnik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raedar, kocka, mre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trahedron[tačka,tačka] – tetraedar čija je stranica određena datim tačkama u proizvoljn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trahedron[tačka,tačka,pravac] - tetraedar čija je stranica određena datim tačkama u dat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be[tačka,tačka] – kocka čija je stranica određena datim tačkama u proizvoljn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be[tačka,tačka,pravac] - kocka čija je stranica određena datim tačkama u dat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t[telo,broj] – razvija mrežu datog tela u n del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era, preseci, refleks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here[tačka,tačka] – sfera sa centrom u prvoj tački koja prolazi kroz drug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here [tačka,poluprečnik] – sfera sa centrom u datoj tački i datim poluprečnik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sectpath [objekat, objekat] – linija kao presek dva uneta objek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flect [objekat,ravan] – simetrična slika datog objekta u odnosu na datu rav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eđivanje radnog pros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ni klik na radno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ršini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ping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cliping-postavljanje i uklanjanje granične kut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ping box size-veličina granične kut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z obzira da li je granična kutija posltavljena ili ne, objekti su prikazani samo unutar granične kut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istom padajućem meniju moguće je postaviti (ukloniti) koordinatne ose, Oxy ravan, kao i koordinatnu mrežu u toj rav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eđivanje radnog pros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gle Style Bar- otvara se klikom na strelicu ispod palete sa alatk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njemu je moguć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ati tip projekci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zno dimenzionirati graničnu kuti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iti pravac gled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ski rotirati sl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ljati koordinatne o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ljati Oxyravan i mrežu unitar 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Stylingbar graphics3D axes plane.svg"/>
          <p:cNvPicPr/>
          <p:nvPr/>
        </p:nvPicPr>
        <p:blipFill>
          <a:blip r:embed="rId1"/>
          <a:stretch/>
        </p:blipFill>
        <p:spPr>
          <a:xfrm>
            <a:off x="155520" y="4608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tylingbar graphics3D axes plane.svg"/>
          <p:cNvPicPr/>
          <p:nvPr/>
        </p:nvPicPr>
        <p:blipFill>
          <a:blip r:embed="rId2"/>
          <a:stretch/>
        </p:blipFill>
        <p:spPr>
          <a:xfrm>
            <a:off x="155520" y="460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van kroz tri tačke –selektujemo tri tačke koje definišu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van (univerzalni alat)-selektuju se tri tačke, prava i tačka, dve prave ili polig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na ravan-selektuju se tačka i linija normalna na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elna ravan-selektuju se tačka i ravan u odnosu na koju se konstruiše paralelna ravan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ode planethreepoint 32.gif"/>
          <p:cNvPicPr/>
          <p:nvPr/>
        </p:nvPicPr>
        <p:blipFill>
          <a:blip r:embed="rId1"/>
          <a:stretch/>
        </p:blipFill>
        <p:spPr>
          <a:xfrm>
            <a:off x="6588000" y="170028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ode plane.svg"/>
          <p:cNvPicPr/>
          <p:nvPr/>
        </p:nvPicPr>
        <p:blipFill>
          <a:blip r:embed="rId2"/>
          <a:stretch/>
        </p:blipFill>
        <p:spPr>
          <a:xfrm>
            <a:off x="665964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Mode orthogonalplane.svg"/>
          <p:cNvPicPr/>
          <p:nvPr/>
        </p:nvPicPr>
        <p:blipFill>
          <a:blip r:embed="rId3"/>
          <a:stretch/>
        </p:blipFill>
        <p:spPr>
          <a:xfrm>
            <a:off x="651672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ode parallelplane.svg"/>
          <p:cNvPicPr/>
          <p:nvPr/>
        </p:nvPicPr>
        <p:blipFill>
          <a:blip r:embed="rId4"/>
          <a:stretch/>
        </p:blipFill>
        <p:spPr>
          <a:xfrm>
            <a:off x="6659640" y="587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era definisana centrom i tačkom na sf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era definisana centrom i poluprečnikom s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ode sphere2.svg"/>
          <p:cNvPicPr/>
          <p:nvPr/>
        </p:nvPicPr>
        <p:blipFill>
          <a:blip r:embed="rId1"/>
          <a:stretch/>
        </p:blipFill>
        <p:spPr>
          <a:xfrm>
            <a:off x="6156360" y="2133720"/>
            <a:ext cx="64620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ode spherepointradius.svg"/>
          <p:cNvPicPr/>
          <p:nvPr/>
        </p:nvPicPr>
        <p:blipFill>
          <a:blip r:embed="rId2"/>
          <a:stretch/>
        </p:blipFill>
        <p:spPr>
          <a:xfrm>
            <a:off x="6156360" y="3429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mida i k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mida definisana tačkom na vrhu i poligonom koji predstavlja b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us definisan centrom i poluprečnikom osnove i tačkom na v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a piramida ili kupa definisana pomoću baze i v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Mode pyramid.svg"/>
          <p:cNvPicPr/>
          <p:nvPr/>
        </p:nvPicPr>
        <p:blipFill>
          <a:blip r:embed="rId1"/>
          <a:stretch/>
        </p:blipFill>
        <p:spPr>
          <a:xfrm>
            <a:off x="6300720" y="256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Mode cone.svg"/>
          <p:cNvPicPr/>
          <p:nvPr/>
        </p:nvPicPr>
        <p:blipFill>
          <a:blip r:embed="rId2"/>
          <a:stretch/>
        </p:blipFill>
        <p:spPr>
          <a:xfrm>
            <a:off x="6300720" y="40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ode conify.svg"/>
          <p:cNvPicPr/>
          <p:nvPr/>
        </p:nvPicPr>
        <p:blipFill>
          <a:blip r:embed="rId3"/>
          <a:stretch/>
        </p:blipFill>
        <p:spPr>
          <a:xfrm>
            <a:off x="6300720" y="5445000"/>
            <a:ext cx="865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ma i cili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zma definisana donjom bazom (poligonom) i jednim temenom na gornjoj b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indar definisan centrima osnova i poluprečnikom os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a prizma ili cilindar definisan osnovom i visi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de cylinder.svg"/>
          <p:cNvPicPr/>
          <p:nvPr/>
        </p:nvPicPr>
        <p:blipFill>
          <a:blip r:embed="rId1"/>
          <a:stretch/>
        </p:blipFill>
        <p:spPr>
          <a:xfrm>
            <a:off x="622764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ode prism.svg"/>
          <p:cNvPicPr/>
          <p:nvPr/>
        </p:nvPicPr>
        <p:blipFill>
          <a:blip r:embed="rId2"/>
          <a:stretch/>
        </p:blipFill>
        <p:spPr>
          <a:xfrm>
            <a:off x="6156360" y="227664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ode extrusion.svg"/>
          <p:cNvPicPr/>
          <p:nvPr/>
        </p:nvPicPr>
        <p:blipFill>
          <a:blip r:embed="rId3"/>
          <a:stretch/>
        </p:blipFill>
        <p:spPr>
          <a:xfrm>
            <a:off x="6227640" y="5373720"/>
            <a:ext cx="8413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raedar, kocka, mre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traedar definisan dvema tačkama i jednom ravni (fakultativ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cka definisana dvema tačkama i jednom ravni (fakultativ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eža prizme ili pira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ode net.svg"/>
          <p:cNvPicPr/>
          <p:nvPr/>
        </p:nvPicPr>
        <p:blipFill>
          <a:blip r:embed="rId1"/>
          <a:stretch/>
        </p:blipFill>
        <p:spPr>
          <a:xfrm>
            <a:off x="6156360" y="508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ode cube.svg"/>
          <p:cNvPicPr/>
          <p:nvPr/>
        </p:nvPicPr>
        <p:blipFill>
          <a:blip r:embed="rId2"/>
          <a:stretch/>
        </p:blipFill>
        <p:spPr>
          <a:xfrm>
            <a:off x="6084720" y="350028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Mode tetrahedron.svg"/>
          <p:cNvPicPr/>
          <p:nvPr/>
        </p:nvPicPr>
        <p:blipFill>
          <a:blip r:embed="rId3"/>
          <a:stretch/>
        </p:blipFill>
        <p:spPr>
          <a:xfrm>
            <a:off x="6084720" y="2133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š neki korisni al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k dveju površi-kao rezultat dobija se kriva ili pr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etija u odnosi na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ja 3D prost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ena prespektive gled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ode viewinfrontof.svg"/>
          <p:cNvPicPr/>
          <p:nvPr/>
        </p:nvPicPr>
        <p:blipFill>
          <a:blip r:embed="rId1"/>
          <a:stretch/>
        </p:blipFill>
        <p:spPr>
          <a:xfrm>
            <a:off x="579600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ode rotateview.svg"/>
          <p:cNvPicPr/>
          <p:nvPr/>
        </p:nvPicPr>
        <p:blipFill>
          <a:blip r:embed="rId2"/>
          <a:stretch/>
        </p:blipFill>
        <p:spPr>
          <a:xfrm>
            <a:off x="6012000" y="38606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ode mirroratplane.svg"/>
          <p:cNvPicPr/>
          <p:nvPr/>
        </p:nvPicPr>
        <p:blipFill>
          <a:blip r:embed="rId3"/>
          <a:stretch/>
        </p:blipFill>
        <p:spPr>
          <a:xfrm>
            <a:off x="6012000" y="292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Mode intersectioncurve.svg"/>
          <p:cNvPicPr/>
          <p:nvPr/>
        </p:nvPicPr>
        <p:blipFill>
          <a:blip r:embed="rId4"/>
          <a:stretch/>
        </p:blipFill>
        <p:spPr>
          <a:xfrm>
            <a:off x="5940360" y="2060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3:14:27Z</dcterms:created>
  <dc:creator>Bogdan Pirkovic</dc:creator>
  <dc:description/>
  <dc:language>en-US</dc:language>
  <cp:lastModifiedBy>Bogdan Pirkovic</cp:lastModifiedBy>
  <dcterms:modified xsi:type="dcterms:W3CDTF">2014-12-04T15:28:58Z</dcterms:modified>
  <cp:revision>4</cp:revision>
  <dc:subject/>
  <dc:title>Geogebra 3D</dc:title>
</cp:coreProperties>
</file>